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013-AF87-4E3C-ABBB-2EF382DB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2EA-9A07-48FC-A45F-05EBEBAE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5D6-54D1-4306-B1F3-6662A5C5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70D-C17F-429A-8969-6AFC170D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0AC-1018-42D6-A024-3FA1CA98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D69-8E12-4EAF-8D16-B695309D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28E-237E-4CA1-AFC9-EC76057B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65B-F8B2-4340-9E7A-9D9F28E2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0C0-B4BA-4AF8-8C45-B41B70B4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B4C-E501-4E7E-9B81-027C94E4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A31-7F26-41D7-B2F6-BB9A869F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7FC-C739-4ED9-A350-46E7DB2A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12A8-2452-4108-BE04-74661DE45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733920" cy="10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يسوع صوتك اسمعنا وحواليك                                     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تجمَّعنا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     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     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و عطول بضَّلَك معنا وبحُبك بتجمعنا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نَقَّيت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12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تلميذ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ريتَك بتنقينا      هالعمر بقربَك لذيذ 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         بقربك ربي خلّينا وحدَك إنتَ بتكفي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562360" cy="815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886200" cy="10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آخر ليـل سهـرة مع يسوع وصّى تلاميذو وصية  وقلبو الأصفـى من الينبوع فاض محبـة وحنيّة    يـا تلاميـذي بــدّي الحب يهّب بهالعالم كلّـو ويلـّي مـا في عنـدو قلب حطُّولو قلب محلّو  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محبــة حقيقي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4572000" cy="9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يا يسوع مثل ما وصيت نحنا الحب رسالتنـا كرمالــك تركنا أهل وبيت وجينا لعندك كليتنـا مـن قلبــك عمنغرف حب ومن روحك عمتسقي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لما نـارك فينــا تهـّب وبالمحبـة تمليّنــ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ويـن مـا بدّك ودّين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6:10:45Z</dcterms:created>
  <dc:creator>SUZANNE.MD</dc:creator>
  <dc:description/>
  <dc:language>en-US</dc:language>
  <cp:lastModifiedBy>HANI SAFI</cp:lastModifiedBy>
  <dcterms:modified xsi:type="dcterms:W3CDTF">2003-04-16T13:39:56Z</dcterms:modified>
  <cp:revision>2</cp:revision>
  <dc:subject/>
  <dc:title>PowerPoint Presentation</dc:title>
</cp:coreProperties>
</file>